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CEBD6EF-E0FA-4CF6-A25E-ABA1F9C77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5FF0102-A6B1-4F50-BD20-7A15E28CD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989B2F2-51C2-4B95-894D-7D0113534F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C1A384F-3036-44EF-A351-B3D19419BB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138D4-73EF-41A5-8A86-05CD1441B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85A7C-9CEC-4B59-B324-2008ACACC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628EF-37EE-40AD-89B9-90BB3F24B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5586D-71AA-43A3-BCCB-E49EE713E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1E322-49B2-43C3-B33A-2A7ABFC15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6D841-46F9-4DE1-A7F0-F4BF4EBB3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7795D-FB61-4553-8841-2918E7920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6A4CD03-BBA6-4649-93ED-1FB2D9E5E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C2DC3-124A-4786-8C3B-BE81C96FA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96774-FAB4-4E1D-81F9-B3896C2BF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2EDD0-121A-4F53-9C6E-5A5D4A04B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72FD9-DDC7-41FB-8BD0-D8577C12C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AEC3E-663B-4369-ACF3-003C81F59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48549C5-C07A-4D16-AA97-74B20EA55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53D1342-BC56-4F5E-B61F-BB40B354E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1EC73B6-FBF5-4701-9548-DF09B74BD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6A6D8F3-A68D-49CA-80C6-BC9F3D397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DCA2976-9BD5-40EF-8CED-A602045D1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32821E2-7035-4633-8770-525D65DB2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2F81BE0-7633-4304-BFB6-A445DA37A2F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8802-67AA-4544-8F02-D9705A1CDF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DC8C-705E-4E79-BA22-A48F86F51A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fdef6"/>
                </a:solidFill>
                <a:latin typeface="Copperplate Gothic Bold"/>
              </a:rPr>
              <a:t>Complex Sentences</a:t>
            </a:r>
            <a:endParaRPr b="0" lang="en-US" sz="66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y and Why they are usefu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find you ticket, or you will not be admitted to the g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 not find your ticket, you will not be admitted to the g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had studied very hard for the te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she made a very high grade on the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had studied very hard for the test, and therefore she made a very high grade on the te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tudying hard, Mary received a high grade on the t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ce launched the boat careful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ailed slowly out through the harb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ce launched the boat carefully, and she sailed slowly out through the harbo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nching the boat with care, Alice sailed slowly through the harb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im already owns a dictionary and a thesaur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have any other references books at h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6" name="PlaceHolder 2"/>
          <p:cNvSpPr>
            <a:spLocks noGrp="1"/>
          </p:cNvSpPr>
          <p:nvPr>
            <p:ph/>
          </p:nvPr>
        </p:nvSpPr>
        <p:spPr>
          <a:xfrm>
            <a:off x="457200" y="228600"/>
            <a:ext cx="8229600" cy="5905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im owns a dictionary and thesaurus, but does not have any other reference books at ho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home, Jim’s only reference books are a dictionary and a thesaur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ctionary and a thesaurus are Jim’s only reference books at ho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
          <p:cNvSpPr/>
          <p:nvPr/>
        </p:nvSpPr>
        <p:spPr>
          <a:xfrm>
            <a:off x="533520" y="228600"/>
            <a:ext cx="8001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When the clock in the town hall tower struck two o’clock in the morning. Jimbo was almost home. Turning down Euclid Avenue. He threw the Nissan into neutral he coasted to a quiet stop in front of the house. He smiled in relief all the lights in the house were turned off a dark meant his folks were asleep. If he sneaked in successfully. They might never find out he’d missed his one o’clock curfew. They told him he would lose his Friday night privileges for a month. Whenever he was late coming home. With his fingers crossed for good luck. He opened and shut the front door without making a sound. As he tiptoed up the carpeted stairs. Jimbo’s dog Pal started barking loud enough to wake the dead and Jimbo’s father, a light sleeper at best, was far from dead, and so of course he woke up too and noticed what time it was. While a happy Pal joyously greeted his master. Jimbo wondered why they called the dog man’s best fri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
          <p:cNvSpPr/>
          <p:nvPr/>
        </p:nvSpPr>
        <p:spPr>
          <a:xfrm>
            <a:off x="609480" y="380880"/>
            <a:ext cx="769644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The clock in the town hall tower struck two, and Jimbo was almost home. Turning down Euclid Avenue, he threw  the Nissan into neutral and quietly coasted to a stop in front of his house. All the lights in the house were dark, and he smiled in relief because his parents were asleep. If he sneaked in successfully, they might never know he missed his one o’clock curfew. They told Jimbo if he came home late again he would lose his Friday night privileges for a mont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ossing his fingers for good luck, he opened and shut the door, and silently tiptoed up the carpeted stairs. Unfortunately Jimbo’s dog, Pal, started barking loud enough to wake the dead. Far from dead, Jimbo’s father, a light sleeper at best, woke up and of course he noticed what time it was. While a happy Pal joyously greeted his master, Jimbo wondered why they called dog man’s best frie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ferences</a:t>
            </a: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ery, D. Kierzek, J. Lindblom, P. </a:t>
            </a:r>
            <a:r>
              <a:rPr b="0" i="1" lang="en-US" sz="3200" spc="-1" strike="noStrike">
                <a:solidFill>
                  <a:srgbClr val="ffffff"/>
                </a:solidFill>
                <a:latin typeface="Arial"/>
              </a:rPr>
              <a:t>English Fundamentals</a:t>
            </a:r>
            <a:r>
              <a:rPr b="0" lang="en-US" sz="3200" spc="-1" strike="noStrike">
                <a:solidFill>
                  <a:srgbClr val="ffffff"/>
                </a:solidFill>
                <a:latin typeface="Arial"/>
              </a:rPr>
              <a:t>, 11</a:t>
            </a:r>
            <a:r>
              <a:rPr b="0" lang="en-US" sz="3200" spc="-1" strike="noStrike" baseline="30000">
                <a:solidFill>
                  <a:srgbClr val="ffffff"/>
                </a:solidFill>
                <a:latin typeface="Arial"/>
              </a:rPr>
              <a:t>th</a:t>
            </a:r>
            <a:r>
              <a:rPr b="0" lang="en-US" sz="3200" spc="-1" strike="noStrike">
                <a:solidFill>
                  <a:srgbClr val="ffffff"/>
                </a:solidFill>
                <a:latin typeface="Arial"/>
              </a:rPr>
              <a:t> Edition, Allyn and Bacon, 65-7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2895480" y="0"/>
            <a:ext cx="2924280" cy="8439120"/>
          </a:xfrm>
          <a:prstGeom prst="rect">
            <a:avLst/>
          </a:prstGeom>
          <a:ln w="0">
            <a:noFill/>
          </a:ln>
        </p:spPr>
      </p:pic>
      <p:sp>
        <p:nvSpPr>
          <p:cNvPr id="517" name=""/>
          <p:cNvSpPr/>
          <p:nvPr/>
        </p:nvSpPr>
        <p:spPr>
          <a:xfrm>
            <a:off x="7010280" y="5715000"/>
            <a:ext cx="128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turus-ra</a:t>
            </a:r>
            <a:endParaRPr b="0" lang="en-US" sz="1800" spc="-1" strike="noStrike">
              <a:solidFill>
                <a:srgbClr val="ffffff"/>
              </a:solidFill>
              <a:latin typeface="Arial"/>
            </a:endParaRPr>
          </a:p>
        </p:txBody>
      </p:sp>
      <p:sp>
        <p:nvSpPr>
          <p:cNvPr id="518" name=""/>
          <p:cNvSpPr/>
          <p:nvPr/>
        </p:nvSpPr>
        <p:spPr>
          <a:xfrm>
            <a:off x="533520" y="838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 Activa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ongest Word</a:t>
            </a:r>
            <a:endParaRPr b="0" lang="en-US" sz="4400" spc="-1" strike="noStrike">
              <a:solidFill>
                <a:srgbClr val="dfdef6"/>
              </a:solidFill>
              <a:latin typeface="Arial"/>
            </a:endParaRPr>
          </a:p>
        </p:txBody>
      </p:sp>
      <p:sp>
        <p:nvSpPr>
          <p:cNvPr id="5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ngest word currently listed in Oxford dictionaries is rather of this kind: it is the supposed lung-disease </a:t>
            </a:r>
            <a:r>
              <a:rPr b="0" i="1" lang="en-US" sz="2800" spc="-1" strike="noStrike">
                <a:solidFill>
                  <a:srgbClr val="ffffff"/>
                </a:solidFill>
                <a:latin typeface="Arial"/>
              </a:rPr>
              <a:t>pneumonoultramicroscopicsilicovolcanoconiosis</a:t>
            </a:r>
            <a:r>
              <a:rPr b="0" lang="en-US" sz="2800" spc="-1" strike="noStrike">
                <a:solidFill>
                  <a:srgbClr val="ffffff"/>
                </a:solidFill>
                <a:latin typeface="Arial"/>
              </a:rPr>
              <a:t> (45 letter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askoxford.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ongest Sentence</a:t>
            </a:r>
            <a:endParaRPr b="0" lang="en-US" sz="4400" spc="-1" strike="noStrike">
              <a:solidFill>
                <a:srgbClr val="dfdef6"/>
              </a:solidFill>
              <a:latin typeface="Arial"/>
            </a:endParaRPr>
          </a:p>
        </p:txBody>
      </p:sp>
      <p:sp>
        <p:nvSpPr>
          <p:cNvPr id="522" name="PlaceHolder 2"/>
          <p:cNvSpPr>
            <a:spLocks noGrp="1"/>
          </p:cNvSpPr>
          <p:nvPr>
            <p:ph/>
          </p:nvPr>
        </p:nvSpPr>
        <p:spPr>
          <a:xfrm>
            <a:off x="457200" y="1219320"/>
            <a:ext cx="8229600" cy="4914720"/>
          </a:xfrm>
          <a:prstGeom prst="rect">
            <a:avLst/>
          </a:prstGeom>
          <a:noFill/>
          <a:ln w="0">
            <a:noFill/>
          </a:ln>
        </p:spPr>
        <p:txBody>
          <a:bodyPr lIns="90000" rIns="90000" tIns="46800" bIns="46800" anchor="t">
            <a:normAutofit fontScale="98000"/>
          </a:bodyPr>
          <a:p>
            <a:pPr marL="335880" indent="-3358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ew owner of the record for the longest sentence in published literature is Mathias Enard for his 517-page French novel "Zone." In fact, the entire novel, except for a few pages of flashbacks, is made up of a single 150,000-word sentence.</a:t>
            </a:r>
            <a:endParaRPr b="0" lang="en-US" sz="1800" spc="-1" strike="noStrike">
              <a:solidFill>
                <a:srgbClr val="ffffff"/>
              </a:solidFill>
              <a:latin typeface="Arial"/>
            </a:endParaRPr>
          </a:p>
          <a:p>
            <a:pPr marL="335880" indent="-3358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long time, Joyce's "Ulysses" was thought to have the longest sentence. Various sources report sentences of 4,391; 11,281; and 12,931 words apiece. But none is long enough to crack the top four nowadays: </a:t>
            </a:r>
            <a:endParaRPr b="0" lang="en-US" sz="1800" spc="-1" strike="noStrike">
              <a:solidFill>
                <a:srgbClr val="ffffff"/>
              </a:solidFill>
              <a:latin typeface="Arial"/>
            </a:endParaRPr>
          </a:p>
          <a:p>
            <a:pPr marL="335880" indent="-3358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150,000 words in "Zone," by Mathias Enard (published )</a:t>
            </a:r>
            <a:endParaRPr b="0" lang="en-US" sz="1800" spc="-1" strike="noStrike">
              <a:solidFill>
                <a:srgbClr val="ffffff"/>
              </a:solidFill>
              <a:latin typeface="Arial"/>
            </a:endParaRPr>
          </a:p>
          <a:p>
            <a:pPr marL="335880" indent="-3358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French in 2008) </a:t>
            </a:r>
            <a:endParaRPr b="0" lang="en-US" sz="1800" spc="-1" strike="noStrike">
              <a:solidFill>
                <a:srgbClr val="ffffff"/>
              </a:solidFill>
              <a:latin typeface="Arial"/>
            </a:endParaRPr>
          </a:p>
          <a:p>
            <a:pPr marL="335880" indent="-3358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40,000 words in "Gates of Paradise," by Jerzy Andrzejewski (Polish, 1960) </a:t>
            </a:r>
            <a:endParaRPr b="0" lang="en-US" sz="1800" spc="-1" strike="noStrike">
              <a:solidFill>
                <a:srgbClr val="ffffff"/>
              </a:solidFill>
              <a:latin typeface="Arial"/>
            </a:endParaRPr>
          </a:p>
          <a:p>
            <a:pPr marL="335880" indent="-3358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30,000 words in "Dancing Lessons for the Advanced in Age," by Bohumil Hrabal (Czech, 1964) </a:t>
            </a:r>
            <a:endParaRPr b="0" lang="en-US" sz="1800" spc="-1" strike="noStrike">
              <a:solidFill>
                <a:srgbClr val="ffffff"/>
              </a:solidFill>
              <a:latin typeface="Arial"/>
            </a:endParaRPr>
          </a:p>
          <a:p>
            <a:pPr marL="335880" indent="-3358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13,995 words in "The Rotters' Club," by Jonathan Coe (English, 2001) </a:t>
            </a:r>
            <a:endParaRPr b="0" lang="en-US" sz="1800" spc="-1" strike="noStrike">
              <a:solidFill>
                <a:srgbClr val="ffffff"/>
              </a:solidFill>
              <a:latin typeface="Arial"/>
            </a:endParaRPr>
          </a:p>
          <a:p>
            <a:pPr marL="335880" indent="-3358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above list does not include "The Blah Story," by Nigel Tomm, which has a sentence of reportedly 2.4 million words that rambles through Volumes 16, 17, 18 and 19. It was left off because (a) the book is self-published, (b) about a million of those words are "blah" and (c) its literary value is highly questionable. An excerpt: "As no one was blah any blah to blah, and no one blah needed blah, blah quietly blah blah ...</a:t>
            </a:r>
            <a:endParaRPr b="0" lang="en-US" sz="1800" spc="-1" strike="noStrike">
              <a:solidFill>
                <a:srgbClr val="ffffff"/>
              </a:solidFill>
              <a:latin typeface="Arial"/>
            </a:endParaRPr>
          </a:p>
          <a:p>
            <a:pPr marL="335880" indent="-3358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ontracostatimes.com/books/ci_1184582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re and Why Grammar is Useful</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ur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lking with Parents and Administrator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ct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ge and Job Application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er Advancement and Earning Potential</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s Intellig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mplex Sentence Defined</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ntence made up of one independent clause and at least one dependent claus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creates a relationship between two fac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y to avoid conjunctions: and, but, or</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ead use an adverb cla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walked into cla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at down in the back r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walked into class, and sat down in the back r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Mary walked into class, she sat down in the back r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find your tick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 not, you will not be admitted to the g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4:08:10Z</dcterms:created>
  <dc:creator>home</dc:creator>
  <dc:description/>
  <dc:language>en-US</dc:language>
  <cp:lastModifiedBy>home</cp:lastModifiedBy>
  <dcterms:modified xsi:type="dcterms:W3CDTF">2009-04-08T16:47:12Z</dcterms:modified>
  <cp:revision>9</cp:revision>
  <dc:subject/>
  <dc:title>Complex Sentences</dc:title>
</cp:coreProperties>
</file>